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4E8-1E86-4113-9337-7F823D7E8D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981000" cy="539640"/>
            <a:chOff x="0" y="0"/>
            <a:chExt cx="981000" cy="53964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54720"/>
              <a:ext cx="980640" cy="4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344160"/>
              <a:ext cx="98100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81000" cy="8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 fichier Power point reprend les principaux éléments du fichier word « Mode d’emploi du module de saisie et d’analy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A6E-BA1C-40F2-9D09-56E9A02A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A0A-7E77-4A69-AB44-147C1E8E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28D-98E4-474E-8F3C-4795F056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0DE-0E0F-45B2-8B5F-2D2A23F2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99B-933D-429A-8BB7-25D0C97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4B1-FAF5-4C44-A441-AC769C51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5D5-16C5-423D-8044-89169D8E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6A2-8A73-423D-9F2C-0C20951E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20D-FF8B-4B81-81E7-9B646349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A1B-1469-4C7B-8BE8-81E77FE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EA2B-6EF1-4AC0-A30D-848B5CB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579-86CB-4AAD-8FC4-4BA0CA9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16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457680"/>
            <a:ext cx="2133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B923-F6C1-4C04-83B9-39B6B92520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7993080" cy="2232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udit 2007 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La préparation cutanée de l’opéré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4764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rebuchet MS"/>
              </a:rPr>
              <a:t>Mode d’emploi du module de saisie et d’analyse</a:t>
            </a:r>
            <a:endParaRPr b="0" lang="en-US" sz="40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54" name=""/>
          <p:cNvSpPr/>
          <p:nvPr/>
        </p:nvSpPr>
        <p:spPr>
          <a:xfrm>
            <a:off x="1987920" y="476280"/>
            <a:ext cx="64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GRoupe d’Évaluation des Pratiques en Hygiène Hospitaliè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0920" y="260280"/>
            <a:ext cx="1347840" cy="981000"/>
            <a:chOff x="250920" y="260280"/>
            <a:chExt cx="1347840" cy="9810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250920" y="360000"/>
              <a:ext cx="1347480" cy="8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50920" y="885600"/>
              <a:ext cx="134784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0920" y="260280"/>
              <a:ext cx="1347840" cy="15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Servic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Service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7320" y="1033560"/>
            <a:ext cx="6929280" cy="5797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flipH="1">
            <a:off x="3400200" y="3305160"/>
            <a:ext cx="3809880" cy="327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80920" y="2376360"/>
            <a:ext cx="3567240" cy="671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DC4-1467-403E-A6B9-207EC7D27C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Servic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5760" y="4767120"/>
            <a:ext cx="87631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isissez les données dans les cases encadrées puis tapez sur T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passer à la case suiv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5120" y="6234120"/>
            <a:ext cx="8771040" cy="595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les macros sont désactivées, les passages automatiques à la case suivante peuvent ne pas fonction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tiliser votre souris ou taper à nouveau sur la touche Tab pour aller sur la case suivan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5760" y="5505480"/>
            <a:ext cx="877104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as d’erreur lors de la saisie (vous avez tapé 1 alors que la réponse était 2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pouvez rectifier en retapant 2 sur la case puis en faisant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924680" cy="3862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7162920" y="838080"/>
            <a:ext cx="1295280" cy="1371600"/>
          </a:xfrm>
          <a:prstGeom prst="wedgeEllipseCallout">
            <a:avLst>
              <a:gd name="adj1" fmla="val -99388"/>
              <a:gd name="adj2" fmla="val -1296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97776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la fin de la saisie, cliquer sur Retour au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D9F-86CA-4AE7-B8CD-7D2E06F961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Patients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1033560"/>
            <a:ext cx="6934320" cy="5803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3886200" y="3305160"/>
            <a:ext cx="3324240" cy="3400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57240" y="2376360"/>
            <a:ext cx="3490920" cy="10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FCC-D39A-41EE-9904-CE518AE597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0160" y="961920"/>
            <a:ext cx="8715240" cy="5362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33920" y="1066680"/>
            <a:ext cx="5029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fiche d’audit pour u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 à une col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6160" y="824040"/>
            <a:ext cx="609480" cy="5333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581280"/>
            <a:ext cx="50292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isissez toutes les cases d’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nne, à chaque fois en tapant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touche 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2362320"/>
            <a:ext cx="5029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assage de la souris dans le petit tri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ge rappelle la liste des valeurs perm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 chaqu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623680" y="2228760"/>
            <a:ext cx="1109880" cy="36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652480" y="2576520"/>
            <a:ext cx="1081080" cy="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24200" y="4800600"/>
            <a:ext cx="50292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cas d’erreur lors de la saisie (vous av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pé 1 alors que la réponse était 2), v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vez rectifier en retapant 2 sur la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is en faisant Ent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EF9-8475-49B2-9D18-5F638DBAF8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056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961920"/>
            <a:ext cx="8686800" cy="5515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505320" y="2819520"/>
            <a:ext cx="502920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les macros sont désactivé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iller à saisir les codes « 8 » q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’apparaîtront pas automatiqu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 les cases entourées, (lorsque la ré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à la question précédente est «non» ou «NA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595600"/>
            <a:ext cx="380880" cy="228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124080"/>
            <a:ext cx="380880" cy="1954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500280"/>
            <a:ext cx="380880" cy="2286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3962520"/>
            <a:ext cx="380880" cy="7617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4876920"/>
            <a:ext cx="3808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626-9C6B-4E71-9E62-7D4A4DC893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9056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3280" y="990720"/>
            <a:ext cx="868212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581280" y="3276720"/>
            <a:ext cx="5029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vous saisissez une valeur incohér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 les cases entouré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message vous le rappelle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cisant que la donnée saisie ne sera p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se en compte dans les analy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33760" y="261000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38440" y="3090960"/>
            <a:ext cx="3808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47800" y="3471840"/>
            <a:ext cx="38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6880" y="4019400"/>
            <a:ext cx="333360" cy="67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62200" y="4871880"/>
            <a:ext cx="3240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5D8-9ACA-4D7A-8E17-B6465CB884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Patient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056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961920"/>
            <a:ext cx="8686800" cy="551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733920" y="1752480"/>
            <a:ext cx="50292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rsque toutes les données d’une f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 Patients » sont saisies (c’est-à-dire tou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 cases de la colonne remplies), il apparaî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s de page la réponse « Oui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que à la question : Fiche complèt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120" y="3200400"/>
            <a:ext cx="838440" cy="290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3886200"/>
            <a:ext cx="502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ota ben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ne seront prises en compte d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analyse et l’édition du ra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 les fiches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OMP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6400800"/>
            <a:ext cx="5638680" cy="457200"/>
          </a:xfrm>
          <a:prstGeom prst="wedgeRectCallout">
            <a:avLst>
              <a:gd name="adj1" fmla="val -50703"/>
              <a:gd name="adj2" fmla="val -100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0320" y="6469200"/>
            <a:ext cx="55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81"/>
                </a:solidFill>
                <a:latin typeface="Arial"/>
              </a:rPr>
              <a:t>A la fin de la saisie, cliquer sur la flèche Retour au 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62120" y="6062760"/>
            <a:ext cx="38592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ED4-19F3-486D-AFCA-CCC2604981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u rapport d’analys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Rapport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7320" y="1004760"/>
            <a:ext cx="6929280" cy="5808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H="1">
            <a:off x="3123720" y="2362320"/>
            <a:ext cx="4024440" cy="1523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572000" y="3224160"/>
            <a:ext cx="2819520" cy="324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A28-3402-4722-8713-414683217A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u rapport d’analys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2840" y="1076400"/>
            <a:ext cx="9058320" cy="5238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05120" y="2209680"/>
            <a:ext cx="52578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B : ce rapport n’est pas protég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s pouvez donc y apporter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aires, supprimer des lig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T de faire des modifications sur le 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TES UNE COPIE DU FICHI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e renomm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r exemple POP_TABLEUR URO V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BD6-5867-481E-9D10-210DDCBF9D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e graphique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Graphiques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7320" y="1004760"/>
            <a:ext cx="6929280" cy="580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H="1">
            <a:off x="3505320" y="2362320"/>
            <a:ext cx="3643200" cy="1828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57440" y="3224160"/>
            <a:ext cx="2133720" cy="325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719-0E44-4748-A3D5-23869CF417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ommair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Installation de POP_TABLEUR.xls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Saisie des données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Édition du rapport d’analyse 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Édition de graphiques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Édition du poster de synthèse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Sauvegarde des données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Envoi des données au C-CLIN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Assistance en cas de difficultés </a:t>
            </a: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4BDE-9E4B-4F92-A494-E4DB52E852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e graphique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920880"/>
            <a:ext cx="8305920" cy="5810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38080" y="2209680"/>
            <a:ext cx="762012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ous pouvez copier les graphiques, pour les intégrer d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autre logiciel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les mettre dans une présentation power point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cela, cliquer sur le graphique choisi, aller dans le menu Edi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quer sur Copier (ou faites Ctrl C sur votre clavier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uis aller dans le logiciel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power point par exempl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 dans le menu Edition, cliquer sur Coller (ou faites Ctrl 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1371240" y="1066680"/>
            <a:ext cx="6172200" cy="236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8BD-910C-4BF4-97E5-C62C4F08B1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u poster de synthès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Poster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7320" y="1004760"/>
            <a:ext cx="6929280" cy="5808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H="1">
            <a:off x="3048120" y="2362320"/>
            <a:ext cx="41004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790960" y="3276720"/>
            <a:ext cx="1904760" cy="32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355-A815-4495-BC54-591D925FF5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Édition du poster de synthèse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4780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56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62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130400"/>
            <a:ext cx="9144000" cy="5770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133720" y="1905120"/>
            <a:ext cx="525780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B : ce poster n’est pas protég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s pouvez donc y apporter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aires, notamment d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ncart « axes d’amélioration » pré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800240" y="3505320"/>
            <a:ext cx="1676520" cy="2895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191120"/>
            <a:ext cx="52578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T de faire des modifications sur le p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TES UNE COPIE DU FICH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le renomm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r exemple POP_TABLEUR URO V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CF0-CFEC-47B5-ABF3-E62A96161F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uvegarde des donnée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"/>
          <p:cNvSpPr/>
          <p:nvPr/>
        </p:nvSpPr>
        <p:spPr>
          <a:xfrm>
            <a:off x="90360" y="121932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4 possibil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us cliquez sur l’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us allez dans le menu Fichier, vous cliquez sur Enregist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ous tapez Ctrl S sur votre clavier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Lorsque vous quittez l’application, vous obtenez la fenê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quez sur O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5791320" cy="1301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H="1">
            <a:off x="4105080" y="2228760"/>
            <a:ext cx="5331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71800" y="2862360"/>
            <a:ext cx="304920" cy="304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3762000" y="2819160"/>
            <a:ext cx="15228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114800" y="5753160"/>
            <a:ext cx="4519440" cy="11048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352680" y="662940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508-F29F-410C-9FCF-B1A51A01D7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Envoi des données au C-CLIN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"/>
          <p:cNvSpPr/>
          <p:nvPr/>
        </p:nvSpPr>
        <p:spPr>
          <a:xfrm>
            <a:off x="22478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6629400" cy="55562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781680" y="1219320"/>
            <a:ext cx="236232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. Vérifier que 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Établiss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t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nt bien complè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. Qui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’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. Envoyer vo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vos) fichier(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u C-C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381360" y="2895480"/>
            <a:ext cx="552600" cy="14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C2FA-9DA1-45F6-99B2-5634158443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Assistance en cas de difficulté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"/>
          <p:cNvSpPr/>
          <p:nvPr/>
        </p:nvSpPr>
        <p:spPr>
          <a:xfrm>
            <a:off x="90360" y="170964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Macros désactivées par méga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Quitter l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ctiver les macros lors de la réouve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Macros non autoris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’application fonctionnera mais pas les saisies « automatiques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eiller à bien saisir toutes 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s de conséquences sur l’édition du rapport et du po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C97F-5F6B-4A65-911D-F96C9F230A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Question ou autre difficulté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"/>
          <p:cNvSpPr/>
          <p:nvPr/>
        </p:nvSpPr>
        <p:spPr>
          <a:xfrm>
            <a:off x="90360" y="1143000"/>
            <a:ext cx="9053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rebuchet MS"/>
              </a:rPr>
              <a:t>Contacter votre C-CLI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Est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Lory MOUCH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Tél. : 03 83 15 34 45 ; e.mail : l.mouchot@chu-nancy.f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Ouest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Nadine GARR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Tél. :</a:t>
            </a:r>
            <a:r>
              <a:rPr b="1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r>
              <a:rPr b="0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02 99 87 35 37 ; e.mail : nadine.garreau@chu-rennes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Paris-Nord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Fabien DANIEL</a:t>
            </a: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33"/>
                </a:solidFill>
                <a:latin typeface="Arial"/>
                <a:ea typeface="Arial"/>
              </a:rPr>
              <a:t>01 40 46 42 08 ; e.mail : fabien.daniel@bhdc.jussieu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Sud-Est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Benoît TRESSIERES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9933"/>
                </a:solidFill>
                <a:latin typeface="Arial"/>
                <a:ea typeface="Arial"/>
              </a:rPr>
              <a:t>Tél. : 04 78 86 49 22 ; e.mail : benoit.tressieres@chu-lyon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C-CLIN Sud-Ouest : </a:t>
            </a:r>
            <a:r>
              <a:rPr b="0" lang="fr-FR" sz="2800" spc="-1" strike="noStrike">
                <a:solidFill>
                  <a:srgbClr val="ff9933"/>
                </a:solidFill>
                <a:latin typeface="Arial"/>
                <a:ea typeface="Arial"/>
              </a:rPr>
              <a:t>Muriel PEF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9933"/>
                </a:solidFill>
                <a:latin typeface="Arial"/>
                <a:ea typeface="Arial"/>
              </a:rPr>
              <a:t>Tél. : 05 56 79 60 58 ; e.mail : muriel.pefau@chu-bordeaux.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27B-4107-4A1B-BF33-36DF11E724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Trebuchet MS"/>
              </a:rPr>
              <a:t>Groupe « POP »</a:t>
            </a:r>
            <a:endParaRPr b="0" lang="en-US" sz="28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Trebuchet MS"/>
              </a:rPr>
              <a:t>Marie-Alix ERTZSCHEID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Michèle AGGOUNE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Claude BERNET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Anne BETTINGER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France BORGEY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Marie-Claire CARPENTIER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Élisabeth GALY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Christophe GAUTIER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Zoher KADI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Pr. Benoist LEJEUNE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hantal MOURENS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Isabelle RACLOT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Dr. Pascal THIBON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4720" y="1844640"/>
            <a:ext cx="4470480" cy="41767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33"/>
                </a:solidFill>
                <a:latin typeface="Trebuchet MS"/>
              </a:rPr>
              <a:t>Établissements-tests </a:t>
            </a:r>
            <a:endParaRPr b="0" lang="en-US" sz="28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3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linique La Casamance, AUBAGNE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Institut BERGONI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É,  </a:t>
            </a: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BORDEAUX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entre Hospitalier, COLMAR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Hôpital Militaire de LAVERAN, MARSEILLE 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Hôpital Militaire LEGOUEST, METZ 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HU de NANTES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linique Saint Grégoire, RENNES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rebuchet MS"/>
              </a:rPr>
              <a:t>CHU de TOURS</a:t>
            </a: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33"/>
              </a:solidFill>
              <a:latin typeface="Trebuchet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68360" y="260280"/>
            <a:ext cx="8207280" cy="1152720"/>
            <a:chOff x="468360" y="260280"/>
            <a:chExt cx="8207280" cy="115272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468360" y="377640"/>
              <a:ext cx="82033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68360" y="995040"/>
              <a:ext cx="8207280" cy="41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8360" y="260280"/>
              <a:ext cx="820728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5A1-2C41-4323-86FD-2FDB5E4504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rebuchet MS"/>
              </a:rPr>
              <a:t>Installation de POP_TABLEUR.xl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"/>
          <p:cNvSpPr/>
          <p:nvPr/>
        </p:nvSpPr>
        <p:spPr>
          <a:xfrm>
            <a:off x="90360" y="1709640"/>
            <a:ext cx="905364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L’application POP_TABLEUR vous permettr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 saisir les fiches de l’évaluation des pratiques de la préparation cuta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’obtenir un rapport d’analyse, des graphiques et un poster de synthèse de vo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L’application fonctionn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vec le tableur Excel (à partir de la version 9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vec le tableur Open Office CALC (version 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82F-4554-4B12-9756-1525880D5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rebuchet MS"/>
              </a:rPr>
              <a:t>Installation de POP_TABLEUR.xl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"/>
          <p:cNvSpPr/>
          <p:nvPr/>
        </p:nvSpPr>
        <p:spPr>
          <a:xfrm>
            <a:off x="90360" y="170964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Après téléchargement, double-cliquez sur l’icône du fich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 vous avez le message suivant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quer sur activer les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Vous obtiendrez le messag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quer sur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00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14640" y="3327480"/>
            <a:ext cx="3810240" cy="1724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 flipH="1" flipV="1">
            <a:off x="6134040" y="4814640"/>
            <a:ext cx="495360" cy="29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099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867280" y="5410080"/>
            <a:ext cx="2286000" cy="1365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62520" y="6400800"/>
            <a:ext cx="2590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DB1-0AC7-4F80-B0A6-B27A1CD2DC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147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Vous arrivez sur le texte d’avertissement suivant : </a:t>
            </a:r>
            <a:r>
              <a:rPr b="0" lang="en-US" sz="4400" spc="-1" strike="noStrike" u="sng">
                <a:solidFill>
                  <a:srgbClr val="ff9933"/>
                </a:solidFill>
                <a:uFillTx/>
                <a:latin typeface="Trebuchet MS"/>
              </a:rPr>
              <a:t>à lire !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"/>
          <p:cNvSpPr/>
          <p:nvPr/>
        </p:nvSpPr>
        <p:spPr>
          <a:xfrm>
            <a:off x="90360" y="1709640"/>
            <a:ext cx="8839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rebuchet MS"/>
              </a:rPr>
              <a:t>Après télé-chargement, double-cliquez sur l’icône du fich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1004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134040" y="4814640"/>
            <a:ext cx="495360" cy="29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99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14400" y="1266840"/>
            <a:ext cx="9248760" cy="569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6BC-DD51-4FD2-B954-6677EEEF14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9933"/>
                </a:solidFill>
                <a:latin typeface="Trebuchet MS"/>
              </a:rPr>
              <a:t>Installation de POP_TABLEUR.xls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02920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rebuchet MS"/>
              </a:rPr>
              <a:t>En résumé, téléchargez autant de fichiers POP_TABLEURS que de « services » audités, et renommez chaque fich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33"/>
                </a:solidFill>
                <a:latin typeface="Trebuchet MS"/>
              </a:rPr>
              <a:t>Remarque : vous pouvez aussi télécharger un seul fichier, saisir la fiche Établissement, puis faire autant de copies du fichier que de services audités, en les renommant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295280"/>
            <a:ext cx="411480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x services de chirurgi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estif et orthopé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 dans les deux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léchargez deux fichiers, que 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omm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_TABLEUR DIG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_TABLEUR 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390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blisseme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1290600"/>
            <a:ext cx="4114800" cy="3354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seul service de chirurgie généra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c du digestif et de l’ur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 dans c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13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tablisseme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3124080"/>
            <a:ext cx="22860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it vous télécharge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ichi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que 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mme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_TABLEUR DIG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_TABLEUR 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us aurez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rap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29560" y="3119400"/>
            <a:ext cx="2286000" cy="1986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t vous télécharge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fichier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, que 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nomme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_TABLEUR 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ous aurez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 ra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A32-4B87-4F25-8C3E-D971DC7ECF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Établissement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036800"/>
            <a:ext cx="6934320" cy="5821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086600" y="12193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quer sur le li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texte ou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ong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 Établissement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90760" y="2376360"/>
            <a:ext cx="2957400" cy="28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819520" y="3276720"/>
            <a:ext cx="4419360" cy="3333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A85-CBB4-4C4A-B78B-378B1A5B9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Établissement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040" y="4724280"/>
            <a:ext cx="8077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isissez les données dans les cases encadrées puis ta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 Tab pour passer à la case suiv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76960" cy="3398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87440" y="5867280"/>
            <a:ext cx="807552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 les macros sont désactivées, les passages automatiques à la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ivante peuvent ne pas fonctionner (utiliser votre souris ou t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 nouveau sur la touche Tab pour aller sur la case suiva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68D-7858-4CAA-B6D3-0E285CBC08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2b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rebuchet MS"/>
              </a:rPr>
              <a:t>Saisie des données : Établissement</a:t>
            </a:r>
            <a:endParaRPr b="0" lang="en-US" sz="4400" spc="-1" strike="noStrike">
              <a:solidFill>
                <a:srgbClr val="ff9933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213840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572000"/>
            <a:ext cx="80755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vous saisissez des données en dehors des valeurs possibles,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vous le signalera. Cliquez sur Réessayer et saisissez 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eur autoris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486400"/>
            <a:ext cx="8075520" cy="12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bre de services de chirurgie : indiquer le nombre TO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rvices (participant ou non à l’aud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bre d’intervention et nombre d’actes en Rx interventionnel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iquer le nombre d’actes l’année N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76960" cy="344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V="1">
            <a:off x="5334120" y="4343040"/>
            <a:ext cx="759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447920"/>
            <a:ext cx="2057400" cy="1143000"/>
          </a:xfrm>
          <a:prstGeom prst="wedgeEllipseCallout">
            <a:avLst>
              <a:gd name="adj1" fmla="val 118208"/>
              <a:gd name="adj2" fmla="val 16472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2800" y="1628640"/>
            <a:ext cx="2024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s d’actes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X interventionnel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isir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914400"/>
            <a:ext cx="1295280" cy="1371600"/>
          </a:xfrm>
          <a:prstGeom prst="wedgeEllipseCallout">
            <a:avLst>
              <a:gd name="adj1" fmla="val -99388"/>
              <a:gd name="adj2" fmla="val -1296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43720" y="105408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la fin de la saisie, cliquer sur Retour au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5491080"/>
            <a:ext cx="8075520" cy="1352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cas d’erreur lors de la sais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vous avez tapé un nombre de service inexact par exempl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s pouvez rectifier en retapant le chiffre sur la case puis en faisant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0A3-C05E-4CE8-80BF-FCEF8CD9B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6:28:39Z</dcterms:created>
  <dc:creator>France Borgey</dc:creator>
  <dc:description/>
  <dc:language>en-US</dc:language>
  <cp:lastModifiedBy>CHU</cp:lastModifiedBy>
  <dcterms:modified xsi:type="dcterms:W3CDTF">2007-03-29T15:11:50Z</dcterms:modified>
  <cp:revision>149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9816795</vt:r8>
  </property>
  <property fmtid="{D5CDD505-2E9C-101B-9397-08002B2CF9AE}" pid="3" name="_AuthorEmail">
    <vt:lpwstr>Marie-Alix.ERTZSCHEID@chu-rennes.fr</vt:lpwstr>
  </property>
  <property fmtid="{D5CDD505-2E9C-101B-9397-08002B2CF9AE}" pid="4" name="_AuthorEmailDisplayName">
    <vt:lpwstr>ERTZSCHEID Marie-Alix</vt:lpwstr>
  </property>
  <property fmtid="{D5CDD505-2E9C-101B-9397-08002B2CF9AE}" pid="5" name="_EmailSubject">
    <vt:lpwstr>POP - Versions avant 1er mars </vt:lpwstr>
  </property>
</Properties>
</file>